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7972-1078-427C-89E6-4853D29C782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8C0E-AA69-40DD-B3D7-94AA71840BE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28D3-5418-41D4-AC60-DBCC6ABE3EA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FF1B-7B6B-4D8F-A5AB-FFDF6584C84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DB96-366C-41B7-857B-21B5D409511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829A-32B1-41EF-BE9A-02E49A480A9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815E-DA89-4850-A574-15F1738C2C5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ichè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5855-4701-4DD8-943F-76ADB81F0B8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B8BF-7EC8-49AF-A4C8-8CAABBFD1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6C65-709B-4A21-B0BD-9AF43836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7F61-DF13-474B-B5A5-1F35307ED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35F2-757B-4B3C-A84F-AC7DAA45F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EBBC-CCEA-4A26-AEE9-7E8CED3C2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6F32-4AC7-464E-BE0B-A76F9523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33B9-3917-4791-869A-A3D89F92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4C48-5B9E-4900-B9D1-2309112A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E716-9A5C-4750-8907-F0E4384C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6ADE-604F-4F62-B777-90A9F5A3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DB00-BF7B-46BA-B938-6DBF13FD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0F37-4257-4D3A-9D21-E233D493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7052-B624-462F-B00A-96CD9286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2357-CC4C-4DFB-91C1-98582252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F637-57CD-4AFE-BFAE-8561D5D4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BE27-FF71-47DF-83AC-C779B03F4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F685-4717-48E5-B23C-51F5BBF86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4F071-269F-471E-B8F2-6862D5C2B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C6C75-B1CF-43D7-85D5-67619AE0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9678D-47CE-41FE-9F1B-48C7A76C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725D7-EDFF-49D2-A7E1-D5F830FD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9A512-FA88-43C9-80DD-E23B0ECD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E799-0377-46E4-B63A-181E79A4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E4E4C-7AE2-46C2-A551-90979A06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E17A5-3E95-4CE5-A19D-95A2D1A5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EBA77-1328-46CB-9504-40C7315D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56762-E5B1-491E-B460-2CC59114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88451-E5B2-4292-9D17-79DB819C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5A4C9-679C-44D9-BED7-7297F80FE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5597A-C635-4948-9212-8BA03CB3D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67950-5A50-4D04-B698-89DFF6B13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46CDF-79C1-4C4A-AEEE-9D30967D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DF77B-C335-452F-9D5F-4686B7F5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14B3-30F4-493C-BD64-C4765C40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9075E-09DF-4CC5-8FD3-D6D5EFB4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332A2-DD9F-4E96-97B7-DE6E2593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DACFD-3215-4360-8A94-63D6E8FE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0187C-6F16-4D38-91DB-F6BE42A9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01AA0-DA9E-4EE0-ABFE-029A1737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5AE22-E01C-42A4-811D-2FC3F55F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AAFE4-1B36-46EE-9B5D-AE0A70B2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F074F-12E5-4696-863C-2A4EA1D32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E773D-5842-49B4-85DA-EC3C0C7A3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A9BA4-15F1-4F8C-980B-2FE75139A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B937-7DF4-4FBE-998E-4F424508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FB4A2-5802-4332-8E7B-18A7CB42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A862B-F100-4809-AD76-2A61C056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EA911-FF45-4E97-8EEE-F386B4EB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DCD8B-D810-495A-B36E-8A997B6D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7BCE9-F49F-48CF-8E78-353E7EAB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012ED-C1B6-42F1-9BD6-001691FF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68B91-C3D4-4CA7-8CF5-433CB65A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3BF5D-E0C1-40BD-A91F-30DCE43B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6DE3A-0C66-40AF-8A4F-A5EA5266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F91C6-9541-48B2-A245-331101907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3E0F-4EFD-4033-AC0E-22402D45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F29AE-5A62-4720-A5A5-A500875F6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F45DD-5D08-4EC3-9041-8918CF976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86ED1-74FC-4962-A65D-4FBD97F6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C3491-E81E-4FAA-924E-C24C0B22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ADEA6-8D49-4943-9B12-F42D8EC1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727F1-C489-4891-BFBB-8014250A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6E1EF-20D6-4189-934A-C85C5326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1254D-C201-4623-916B-FB6EBAD4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188C6-DE5E-4C09-810D-B9856926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58FD3-C88A-4720-B632-E3F2D3B9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0DE4-8CF9-47BA-8EE9-E818C7C7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84474-51DC-4629-87D6-8CF72D6B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1AED7-4AF7-4443-82AE-240851733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7FCA7-A541-4AAC-B5C1-066C0DA2B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CE18D-2171-4A9A-86EF-183CD6DD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7BB9C-A59E-45BD-BB80-0AE840BF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0C3A8-CB6D-476D-BE5F-409BB624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E8CD9-7DEE-48DD-B5AA-9BE5E603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3B495-F52B-49FC-A5E1-9EB9E488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8FB89-3AE5-419D-AE99-E41221A9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30734-5D61-45C1-8958-5DCBD19F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C92E-F121-4DA8-8C9C-7CBF99D1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56F5A-1FC2-4875-A85C-54CBCC7A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7052F-D1B5-4B21-A906-05E7A065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B36DE-96F8-4B91-8031-77922464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C7103-0525-4DFC-8132-E6FCA0106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945DF-96F9-4F58-AB21-3C57FEA84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0C865-9216-4C80-8ED8-FDAC16D3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6FAE8-10F7-4DFE-8356-5AFE5E23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A840D-47A8-44C8-B497-9E79457D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1FF6C-7458-4A86-9379-1D2644E3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DC6C4-2421-45E9-B84E-2DC1298A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9767-2202-4839-A85D-EC6924E1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64D0D-38A2-44B6-9078-0CAC5801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C72B4-6AC7-4090-B541-CD21FF6C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2CDBA-320B-46F1-84DF-22C88638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2C592-BA6C-4D36-A50B-5E8D8251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4A296-94D0-4DEE-920A-A5090981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D8A9D-EA31-4576-B392-213BF89BB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EE990-649C-46BE-8462-E90C1E882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27C0-8E60-4CC3-A5CF-396D0ECE1AB9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6BBA-A691-47AC-8029-4D5D283F35E9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7F49-F08D-4FAD-9A37-3376E094CF73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9827-DBCF-4E87-9C6D-04AF646A279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6137-412D-4740-A017-118AD5D9E666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9304-0146-42AE-B1F8-59320C63690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3AB6-E9D5-4BF3-A103-14F5CF271D6A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41B0-3078-4FF9-8E12-5730B183F3D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08FE-E7E8-437E-9D73-AE1F2D58DE35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271E-67E2-4FDE-A242-3E1441EAF1C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AA60-FA7D-4E14-84F4-DA18B35493FE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3509-1A96-43FC-8F49-B60B4E627FF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021B-C249-42EC-ACF3-C20FF7A65254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7C7F-B7BA-4436-82C5-36E48BBEFE1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E307-DE72-4B75-9ED8-9AB6C03E499D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92F4-8201-4599-8877-6064D634784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0" y="62064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c00000"/>
                </a:solidFill>
                <a:latin typeface="Arial Black"/>
              </a:rPr>
              <a:t>Le courrier </a:t>
            </a:r>
            <a:endParaRPr b="1" lang="en-US" sz="4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c00000"/>
                </a:solidFill>
                <a:latin typeface="Arial Black"/>
              </a:rPr>
              <a:t>de sollicitation </a:t>
            </a:r>
            <a:endParaRPr b="1" lang="en-US" sz="4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c00000"/>
                </a:solidFill>
                <a:latin typeface="Arial Black"/>
              </a:rPr>
              <a:t>auprès d’une administration</a:t>
            </a:r>
            <a:endParaRPr b="1" lang="en-US" sz="4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 Black"/>
              </a:rPr>
              <a:t>M. Deconinck (IEN  EG) et M. Sendre (IEN L)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5189-F90A-4263-A9D5-54F16C40C6E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indispensables au professi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822240" y="1989000"/>
            <a:ext cx="75218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83880" indent="-8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Note d’opportunité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83880" indent="-8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28374a"/>
                </a:solidFill>
                <a:latin typeface="Franklin Gothic Book"/>
              </a:rPr>
              <a:t>«La compétence à communiquer intègre une maîtrise langagière spécifique du métier et une utilisation du lexique de l’organisation dans tout type de contexte et de situation professionnels»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83880" indent="-8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0772-F586-4936-B678-9E1A4098CBD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10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indispensables au professionnel (suite)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826920" y="1483920"/>
            <a:ext cx="75218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7400" indent="-167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167400" indent="-167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Le Référentiel d’Activités Professionnelles  (RAP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167400" indent="-167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r>
              <a:rPr b="0" i="1" lang="fr-FR" sz="2800" spc="-1" strike="noStrike">
                <a:solidFill>
                  <a:srgbClr val="28374a"/>
                </a:solidFill>
                <a:latin typeface="Franklin Gothic Book"/>
              </a:rPr>
              <a:t>«</a:t>
            </a:r>
            <a:r>
              <a:rPr b="1" i="1" lang="fr-FR" sz="2800" spc="-1" strike="noStrike">
                <a:solidFill>
                  <a:srgbClr val="28374a"/>
                </a:solidFill>
                <a:latin typeface="Franklin Gothic Book"/>
              </a:rPr>
              <a:t>Dans son rôle d’interface et de producteur de documents et de supports de communication, le titulaire du baccalauréat professionnel Gestion-Administration doit maîtriser la qualité de son expression écrite et orale. Vecteur de l’image de l’organisation, sa maîtrise de l’orthographe et de la syntaxe est impérative»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167400" indent="-167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822D-5D84-454D-916E-E4178DCF94E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24000" y="365040"/>
            <a:ext cx="80200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Franklin Gothic Medium"/>
              </a:rPr>
              <a:t>Pôle 1 – Gestion administrative des relations externes</a:t>
            </a:r>
            <a:br>
              <a:rPr sz="2400"/>
            </a:br>
            <a:r>
              <a:rPr b="0" lang="fr-FR" sz="2400" spc="-1" strike="noStrike">
                <a:solidFill>
                  <a:srgbClr val="c00000"/>
                </a:solidFill>
                <a:latin typeface="Franklin Gothic Medium"/>
              </a:rPr>
              <a:t>Aptitude générale : </a:t>
            </a:r>
            <a:r>
              <a:rPr b="0" i="1" lang="fr-FR" sz="2400" spc="-1" strike="noStrike">
                <a:solidFill>
                  <a:srgbClr val="c00000"/>
                </a:solidFill>
                <a:latin typeface="Franklin Gothic Medium"/>
              </a:rPr>
              <a:t>Maintenir la relation avec des tiers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95280" y="1412640"/>
            <a:ext cx="7948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1.3. Gestion administrative des relations avec les autres partenaires</a:t>
            </a:r>
            <a:r>
              <a:rPr b="1" lang="fr-FR" sz="1700" spc="-1" strike="noStrike">
                <a:solidFill>
                  <a:srgbClr val="4f81bd"/>
                </a:solidFill>
                <a:latin typeface="Arial"/>
                <a:ea typeface="Times New Roman"/>
              </a:rPr>
              <a:t>  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3b81bd"/>
                </a:solidFill>
                <a:latin typeface="Arial"/>
                <a:ea typeface="Times New Roman"/>
              </a:rPr>
              <a:t>1.3.3. Traitement des formalités administratives</a:t>
            </a: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28374a"/>
                </a:solidFill>
                <a:latin typeface="Franklin Gothic Book"/>
              </a:rPr>
              <a:t>Savoirs associé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Savoirs rédactionnels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- </a:t>
            </a:r>
            <a:r>
              <a:rPr b="1" lang="fr-FR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Lecture et écriture d’un genre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courrier de sollicitation auprès d’une administr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- </a:t>
            </a:r>
            <a:r>
              <a:rPr b="1" lang="fr-FR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Procédés d’écriture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positionnement et la situation de l’émetteur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a description et la justification de la requête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s codes et règles du courrier aux administrations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lexique du souhait, de la demande, de l’autoris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s modes et temps des verbes : conditionnel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DA21-EC36-4CE5-B520-8E4DD94A026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courrier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2240" y="907920"/>
            <a:ext cx="7521840" cy="532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txBody>
          <a:bodyPr anchor="t">
            <a:normAutofit fontScale="99000"/>
          </a:bodyPr>
          <a:p>
            <a:pPr marL="263880" indent="12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63880" indent="12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63880" indent="12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SARL   ESCOUZEL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63880" indent="12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roduits régionaux et biologiques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63880" indent="12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lace Royale                                                                                Labastide, le 1</a:t>
            </a:r>
            <a:r>
              <a:rPr b="1" lang="fr-FR" sz="1000" spc="-1" strike="noStrike" baseline="30000">
                <a:solidFill>
                  <a:srgbClr val="000000"/>
                </a:solidFill>
                <a:latin typeface="Franklin Gothic Book"/>
              </a:rPr>
              <a:t>er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octobre 2011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63880" indent="12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40240 Labastide d’Armagnac                                                                                                  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63880" indent="12240">
              <a:tabLst>
                <a:tab algn="l" pos="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Monsieur le Maire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63880" indent="12240">
              <a:tabLst>
                <a:tab algn="l" pos="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Hôtel de Ville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63880" indent="12240">
              <a:tabLst>
                <a:tab algn="l" pos="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   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lace Royale         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63880" indent="12240">
              <a:tabLst>
                <a:tab algn="l" pos="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  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40240 Labastide d’Armagnac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63880" indent="12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Objet : modification couleur menuiseries extérieures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63880" indent="12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63880" indent="12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Monsieur le Maire,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63880" indent="12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63880" indent="12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Comme suite à notre courrier du 24 août dernier au service départemental de l’architecture et du patrimoine des Landes, et à la rencontre du 22 septembre avec Monsieur Gileti, architecte des Bâtiments de France et à son courrier du 29, nous avons pris bonne note des références qu’il nous a conseillées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63880" indent="12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63880" indent="12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Nous avons donc l’honneur de vous informer que, conformément à l’avis de Monsieur Gileti, nous allons utiliser, pour la peinture des menuiseries extérieures de notre commerce de Labastide d’Armagnac, les références des couleurs suivantes :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63880" indent="122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i="1" lang="fr-FR" sz="1000" spc="-1" strike="noStrike">
                <a:solidFill>
                  <a:srgbClr val="000000"/>
                </a:solidFill>
                <a:latin typeface="Franklin Gothic Book"/>
              </a:rPr>
              <a:t>Nuancier Sikkens Color, collection 2021, page 88, G8.1060 ou G8.1070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63880" indent="12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63880" indent="12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Nous vous prions d’agréer, Monsieur le Maire, l’expression de nos salutations les plus distinguées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63880" indent="12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63880" indent="12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                                                                                                        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ierre Escouzel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63880" indent="12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copie : M. Gileti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 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97D3-4860-449A-AC81-B53B0F426F5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Image 11" descr="label-ab-europeen.jpg"/>
          <p:cNvPicPr/>
          <p:nvPr/>
        </p:nvPicPr>
        <p:blipFill>
          <a:blip r:embed="rId1"/>
          <a:stretch/>
        </p:blipFill>
        <p:spPr>
          <a:xfrm>
            <a:off x="900000" y="981000"/>
            <a:ext cx="57636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xploitation des cinq niveaux d’analyse </a:t>
            </a:r>
            <a:r>
              <a:rPr b="0" lang="fr-FR" sz="1800" spc="-1" strike="noStrike">
                <a:solidFill>
                  <a:srgbClr val="c00000"/>
                </a:solidFill>
                <a:latin typeface="Franklin Gothic Medium"/>
              </a:rPr>
              <a:t>(RAP Annexe III c)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822240" y="1267920"/>
            <a:ext cx="75218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1. Communication et énonci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Contexte, situation de communication et ses marques dans l’énonciation du text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identités des interlocuteurs, pronoms personnels, indicateurs temporels, temps verbaux  (antériorité, simultanéité, postériorité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2. Visées et enjeux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Visée informative avec un enjeu « civique » implicit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Mode indicatif, phrases déclaratives, mise en paragraphes, valorisation de la décision, lexique  « neutre »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3.Genres des documents professionnel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 courrier d’information d’un  commerçant  à une administr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Mise en page du courrier, formules d’usage…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0560-6D36-41C1-8BD7-8EB07B66631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xploitation des cinq niveaux (suite)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22240" y="1099800"/>
            <a:ext cx="752184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4. Lexique professionnel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xique thématiqu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xique usuel codifié selon l’usage et les relations (hiérarchiques ou entre « pairs »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5. Mobilisation de connaissances et de codes orthographique, grammatical et syntaxiqu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caractères typographique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« marques de personne », les modes et temps verbaux, (valeurs et conjugaisons), les accords, la syntaxe, la ponctu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a cohésion du texte (connecteurs, faits de reprise) et cohérence logique (mise en paragraphes, progression de l’information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niveaux de langue et l’orthographe lexical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Une révision en situation, au fil de l’écriture et de la réécritur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8A48-A506-454A-8B76-80AD6CAE994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07:45:51Z</dcterms:created>
  <dc:creator>Simon</dc:creator>
  <dc:description/>
  <cp:keywords/>
  <dc:language>en-US</dc:language>
  <cp:lastModifiedBy>pat</cp:lastModifiedBy>
  <dcterms:modified xsi:type="dcterms:W3CDTF">2012-06-03T21:36:58Z</dcterms:modified>
  <cp:revision>172</cp:revision>
  <dc:subject/>
  <dc:title>Présentation PowerPoint</dc:title>
</cp:coreProperties>
</file>